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cashreg.wav" ContentType="audio/x-wav"/>
  <Override PartName="/ppt/media/image5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6BC-4D5A-4C99-96A2-2D493132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A50-C396-49CA-BBEA-1BC7A968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D7FC3-2F3B-4D07-A613-172B50BA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8A616-14C5-44B2-AC17-8AB6DEB4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F0BED-E67D-4AC6-BCA6-CF39B906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53257-73EC-4C1B-B1F9-4718ED5F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D9C4D-2C25-4467-8044-C6738D8E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3F555-B8D2-4DF4-AB8A-8763EC6A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E6CA2-B6D3-410E-9BE5-E9BA8255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7EEC1-3BC0-4272-AE39-0B3D4480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08886-7B3A-4B3D-8194-98FA94F8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79630-E08D-4F40-AE4E-32234009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6022-1E8E-4817-BCEF-F3A0636B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82EBF-2EFE-45E4-9DE4-567085CD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6E005-FBEC-48B5-9DF3-9BE0EAB4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D128D-2340-426D-91F5-67770077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1DC2E-38F3-46D1-BD75-640770B1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E9C49-27BA-4A29-BC6F-E428BB17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C8B39-BFF4-41C7-8368-A0F49170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4DC08-6A84-48F2-B76D-5BE002EE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06185-5EE9-4728-BD74-3FAC0572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12543-B980-4A22-A5DA-6AF0265F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7D7D1-5747-4DE4-A430-1A90EC1C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828-2FF0-416D-B0FF-11BA6610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19A58-079E-417C-8A31-AD360980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27CE9-5F07-4CBB-930A-C6449F3E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DBC28-DF2D-471E-A64F-D5C29AE1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C7AD1-7D76-423F-B8FF-9D00BA8C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24E9D-5B5B-46C3-B0D0-18B2CB94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8487B-5617-4AA5-BE26-383E23CA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1703F-8650-4CC6-8E16-AFDA6CF3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5499B-67D8-43F5-9FB3-B4373820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D31A2-6B9E-4ADF-830C-DFF9B709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1ECAF-12CE-484C-98F4-01790279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0388-2676-4268-8CBA-E32502AF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B5950-E71D-4A88-A516-9788A59E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49BDB-4DF6-41E2-8D9A-AA192509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90977-58CA-4417-8819-648D3FEA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9F4FA-DBA5-4EBF-9014-EDC5D367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39FAB-6B09-4944-B65C-716453BC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19936-141F-4C65-84F5-57793BF2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8C740-2D81-4E57-8379-8F586694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7424C-03CB-465E-8818-98F4BEFD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5F721-ED78-41F7-8B1B-66D15D74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F87ED-DE1F-4ADD-8465-AB4F6A68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B788-6F6F-40B5-BFBC-D30A4730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CB136-68D1-486E-8DA3-84E41171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3466C-3654-4923-B409-40F54B51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C0349-2825-40E1-9779-EF89DBAA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260A2-03F3-4308-9B72-1039BBA9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E1DA4-7BF2-4031-BFD5-DB33DC95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EEC6-188F-4E71-930E-510FD376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9B68-208E-4128-8A58-5B39D812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E346-C265-4047-BA32-BC9FD91E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50A7-96E6-42AD-8DEF-504D9C62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D6A4-AEE1-4E9D-9A8D-3160E727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3AD-D623-4E27-9554-4FE867A6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DC01-6ED2-4871-A418-A73D68CF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8C72-BFEB-42E1-8E81-11F3929E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3A9F-37DB-4811-868A-B1A4698B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5FA3-7CCD-486E-8761-4E088B0F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11C2-351E-4E85-A964-9C89ECD9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D593-CED0-42E6-816F-3D845320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54EE8-6AFE-4B04-87E7-F6965DFB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8BCE0-F5C7-4D9E-B3A8-989F7DA4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D72A5-3B28-488D-9367-ACA8D6D2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D8601-E986-42FE-B4F5-7D2C02D3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40E-05DB-479B-B06F-D6C83F1D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5580D-6939-49EF-91EC-00863075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B892A-4F76-417B-96EF-C5705E15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E4A40-6295-49CA-8B0F-FEB8A43C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5A29A-4658-43FE-AAD9-F6E51B25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4DC9B-94A8-4457-B0D2-28418B2D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85EC-72AC-4733-B89D-AE619986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DE918-EE87-407F-9A17-3FF21EC8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80897-2B47-4366-A559-6127E30A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8FE19-5662-4BB3-9E0B-3CFA8D23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DCB7D-5D74-493E-9E18-55B407AC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756-3E49-48CC-941B-33D91034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21376-FEEB-469D-9C0D-8FC70197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4F6E8-DDEF-4A10-93F8-1BD9B1F3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B94C0-B9E5-483F-A654-72B669E0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C40F3-B838-4C17-8B2E-D0CFA8EC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7C3C3-C179-4266-9A2A-59F508D2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D88AE-35BA-418A-930F-B632AC1A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3D6A5-9307-494A-B9A1-E5BD4CFE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BAB9A-641E-4EFF-911C-858859B1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A350B-3EB6-45A6-920F-B8686E71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202FF-0CAD-4267-80B7-738CA118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6CA-AE92-4B30-B8C0-BDA6D731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43CCD-DFA2-4E9F-AF32-B3E83FAA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AA3F1-1445-412B-9C0F-5B6F46EE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343CA-87F7-41D3-B058-B7769D76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12E13-8535-49AE-B40C-9DB171F5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6CC18-4819-49FB-9C0F-1C18BC19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004A2-0C03-4D8A-B2CD-FC4689A6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330FB-D971-4B22-9E4E-3254E032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F12EE-CF92-4A7F-A089-56274164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079D7-57E3-4049-936C-9DFC19FC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6F05F-9373-4551-B155-F86599AB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9E3-7C39-499D-9DB7-DEF51C3E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9284C-5004-4D9C-BF41-926F8619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D8758-2AE7-44F4-B30D-C61B57C8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7F3BA-8C3C-4CC0-BC7A-5CFACECB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558FE-72F5-48EC-BA02-37CDF972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4AE69-FBC5-4E08-B83B-8E284C1F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6C42A-69DC-44E6-96DE-B5EE5DA2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BA1CD-D981-42F9-9392-E42C9F3E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43BBD-853E-4030-A595-C185140A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CD8BD-E51F-4462-9A00-3DD9DE03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5DC09-D1AB-4FA9-8DD3-73ED4E9F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C08-066D-4D63-9FCA-767DB747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6CFC5-F6E2-4CEC-AE8B-FA52E076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E1643-F220-4157-9A0F-57F53A22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7B062-5639-41A3-BFDA-CE6834C5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A6318-43A8-452D-BCB2-7EB60D9D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C8D25-5905-4F3C-9473-BBFDD7B1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03824-F83B-4CAE-A9CF-4A0FA3D6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2CF8B-72B4-46EE-8D4A-442915E7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CFD13-F36E-4C77-9FCD-A7D279EA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F5676-C906-4310-AF08-3ACC9351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53477-8978-4045-9773-C8BFD150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7C0-FCD4-420B-ACD2-8DA3996B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5C345-C5D4-4079-8D46-33D1E1FD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817FB-DB50-412B-8EEE-A014AFE2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12D29-D92B-49BF-BF4F-34F850E4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147F7-2984-48D0-A187-B6FD3C29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C64BF-F098-42FA-B859-4D5D9E41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2E2A5-6C06-4D9D-886C-7D631E54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EB2B9-5B78-4930-A89C-C593C2E5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F1C1A-29FB-4289-BF45-1765CAA7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A0DB8-3E07-4220-9793-3CB912FF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EE960-DCE7-4C0C-8178-AC54E9A5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E12-CC7A-4E91-885D-A9D656C4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2BF1A-6B68-42BB-B8E1-870D2977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0C27E-F2B5-468B-A214-64642820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74C33-16A7-46BC-8681-21EB65D0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01DFD-0E82-454F-A9AD-97B0712C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360" y="4693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BFB8C-761A-467E-B8AE-2D51DE9A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5400" y="23270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836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85400" y="4693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D4307-54C9-4A59-8C64-949766EA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080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33240" y="23270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836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080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33240" y="4693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E471B-2761-41C3-93D3-EA041CE6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FBE5B-A190-4527-AF9B-CC2A57CF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59C1C-2CAF-462F-B0FB-CDBFE5EB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2B5B8-6936-4E63-B879-F8EA7E14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4DDF-76C4-444E-B55C-D531BE0446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dt" idx="28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ftr" idx="29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30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ABF4-9B49-42FD-A51D-3C06CEB15A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15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11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1" marL="542160" indent="-2084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2" marL="834120" indent="-166680"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3" marL="1167840" indent="-166680">
              <a:spcBef>
                <a:spcPts val="11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4" marL="1501560" indent="-166680">
              <a:spcBef>
                <a:spcPts val="11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5" marL="1501560" indent="-166680">
              <a:spcBef>
                <a:spcPts val="11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lvl="6" marL="1501560" indent="-166680">
              <a:spcBef>
                <a:spcPts val="11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B2B2-C293-4BD5-A541-A623662A86B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62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85EB-3CC5-4B02-BEF1-B6E499190DA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19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6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DA09-9827-4563-800C-12BE596472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9640" y="846000"/>
            <a:ext cx="8604360" cy="1006560"/>
            <a:chOff x="539640" y="846000"/>
            <a:chExt cx="8604360" cy="1006560"/>
          </a:xfrm>
        </p:grpSpPr>
        <p:sp>
          <p:nvSpPr>
            <p:cNvPr id="46" name=""/>
            <p:cNvSpPr/>
            <p:nvPr/>
          </p:nvSpPr>
          <p:spPr>
            <a:xfrm>
              <a:off x="1474920" y="1494000"/>
              <a:ext cx="7418160" cy="134640"/>
            </a:xfrm>
            <a:prstGeom prst="flowChartAlternateProcess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97840" y="846000"/>
              <a:ext cx="1046160" cy="7826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40" y="907920"/>
              <a:ext cx="989280" cy="944640"/>
            </a:xfrm>
            <a:prstGeom prst="ellipse">
              <a:avLst/>
            </a:prstGeom>
            <a:noFill/>
            <a:ln w="88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9280" y="1197000"/>
              <a:ext cx="14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ff"/>
                  </a:solidFill>
                  <a:latin typeface="Vineta BT"/>
                  <a:ea typeface="華康儷簡宋(P)"/>
                </a:rPr>
                <a:t>XDZ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EA03-F511-4C97-94C4-9D1F0F322C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6D87-5C3C-444A-8489-BF75D278EA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1" marL="549720" indent="-211320">
              <a:spcBef>
                <a:spcPts val="11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2" marL="845640" indent="-168840">
              <a:spcBef>
                <a:spcPts val="1100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3" marL="1184040" indent="-168840">
              <a:spcBef>
                <a:spcPts val="1100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4" marL="1522440" indent="-168840">
              <a:spcBef>
                <a:spcPts val="1100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5" marL="1522440" indent="-168840">
              <a:spcBef>
                <a:spcPts val="1100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lvl="6" marL="1522440" indent="-168840">
              <a:spcBef>
                <a:spcPts val="1100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BF3D-F44C-4E88-9E34-32917066E0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FE99-E86F-49CF-81D3-0CE8E93383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9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21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253A-8AB8-4A0F-BD82-54F4FE1CD6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7AC2-85E6-4646-9EB8-042F176F31B2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22C9-B458-428F-BF8B-FE5EB92B68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</a:rPr>
              <a:t>期末复习班会系列一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908000" y="2276640"/>
            <a:ext cx="51055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永不落山的太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5410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失败者寻找借口，推卸责任；成功者承担责任，寻找方法。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你到底是推卸责任，还是承担责任？是寻找借口，还是寻找方法？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界球王贝利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年的足球生涯里，参加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6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场比赛，共踢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8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球。并创造了一个队员在一场比赛中射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球的纪录。他超凡的技艺不仅令万千观众心醉，而且常使球场上的对手拍手称绝。他不仅球艺高超，而且谈吐不凡。当他个人进球记录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时，有人问他：“您哪个球踢得最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贝利笑了，意味深长地说：“下一个。”他的回答含蓄幽默，耐人寻味，像他的球艺一样精彩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启示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迈向成功的道路上，每当实现了一个近期目标，决不应自满，而应迎接新的成功，应把原来的成功当成是新的成功的起点，千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能自我满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才永远有新的目标，才能攀登新的高峰，才能获得成功者的无穷无尽的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411280" y="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下一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5f5f5f"/>
                </a:solidFill>
                <a:latin typeface="Arial"/>
              </a:rPr>
              <a:t>狮子和羚羊的家教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每天，当太阳升起的时候，非洲大草原上的动物们就开始奔跑了。</a:t>
            </a:r>
            <a:br>
              <a:rPr sz="4400"/>
            </a:b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      狮子妈妈在教育自己的孩子，你必须跑得再快一点，再快一点，你要是跑不过最慢的羚羊，你就会活活地饿死。”</a:t>
            </a:r>
            <a:br>
              <a:rPr sz="4400"/>
            </a:b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在另外一个场地上，羚羊妈妈也在教育自己的孩子：“孩子，你必须跑得再快一点，再快一点，如果你不能比跑得最快的狮子还要快，那你就肯定会被他们吃掉。” 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　秘诀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记住，你跑得快，别人跑得更快。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赶超对手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]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6328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一、仔细制定一个考前复习计划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隶书"/>
              </a:rPr>
              <a:t> </a:t>
            </a:r>
            <a:endParaRPr b="0" lang="en-US" sz="8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58560" y="981000"/>
            <a:ext cx="762012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凡事预则立，不预则废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39337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在安排学习任务时，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轻重缓急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得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403280" y="404280"/>
            <a:ext cx="734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二、有效利用复习时间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恩格斯说：“没有计划的学习简直就是荒唐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时，同学们浪费时间的现象非常普遍。如：聊天、没有节制地玩、无目的的东张西望、无目的的看与学习无关的书、为崇拜的人分散精力、看或写不必要的东西等等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1331640" y="404280"/>
            <a:ext cx="7561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三、讲究复习方法，提高复习效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，对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基础知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概念的来龙去脉要搞清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，对知识和概念的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易混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也就是难点要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归纳类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三，不能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眼高手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只看不做，适当的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练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必要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1331640" y="981000"/>
            <a:ext cx="7489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00"/>
                </a:solidFill>
                <a:latin typeface="新宋体"/>
                <a:ea typeface="新宋体"/>
              </a:rPr>
              <a:t>在回扣复习阶段一定要注意各科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时间上的合理分配，</a:t>
            </a:r>
            <a:r>
              <a:rPr b="1" lang="zh-CN" sz="3600" spc="-1" strike="noStrike">
                <a:solidFill>
                  <a:srgbClr val="0000ff"/>
                </a:solidFill>
                <a:latin typeface="新宋体"/>
                <a:ea typeface="新宋体"/>
              </a:rPr>
              <a:t>要齐头并进。一枝独秀不是春，百花齐放春满园</a:t>
            </a:r>
            <a:r>
              <a:rPr b="1" lang="zh-CN" sz="3200" spc="-1" strike="noStrike">
                <a:solidFill>
                  <a:srgbClr val="003300"/>
                </a:solidFill>
                <a:latin typeface="新宋体"/>
                <a:ea typeface="新宋体"/>
              </a:rPr>
              <a:t>。各科要均衡发展，每门功课都要复习到位，不能对优势学科掉以轻心，也不能对薄弱学科失去信心。只是不同层次的功课，对你要求各不相同，复习的目标和策略做到相应变化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新宋体"/>
                <a:ea typeface="新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互帮互学，共同进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独学而无友，则孤陋而寡闻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340000" y="1989000"/>
            <a:ext cx="56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523880" y="189000"/>
            <a:ext cx="762012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特别提醒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042920" y="1557360"/>
            <a:ext cx="77770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</a:t>
            </a:r>
            <a:r>
              <a:rPr b="1" lang="zh-CN" sz="5400" spc="-1" strike="noStrike">
                <a:solidFill>
                  <a:srgbClr val="00ffff"/>
                </a:solidFill>
                <a:latin typeface="宋体"/>
              </a:rPr>
              <a:t>既然我们选择了远方，就只顾风雨兼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cc"/>
                </a:solidFill>
                <a:latin typeface="华文行楷"/>
                <a:ea typeface="华文行楷"/>
              </a:rPr>
              <a:t>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华文隶书"/>
                <a:ea typeface="华文隶书"/>
              </a:rPr>
              <a:t>——</a:t>
            </a: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汪国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心向着自己目标前进的人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个世界都给他让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爱默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5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每个人都有潜在的能量，只是很容易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被习惯所掩盖，被时间所迷离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被惰性所消磨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95280" y="4221000"/>
            <a:ext cx="87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吃得苦中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方为人上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123840" y="0"/>
            <a:ext cx="889632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11280" y="1623960"/>
            <a:ext cx="813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盖士人读书，第一要有志，第二要有识，第三要有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《曾国藩家书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8:26:2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17:33Z</dcterms:modified>
  <cp:revision>26</cp:revision>
  <dc:subject>主题班会课件(分28大类): http://shop62905894.taobao.com</dc:subject>
  <dc:title>主题班会课件(分28大类): http://shop62905894.taobao.com</dc:title>
</cp:coreProperties>
</file>